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BF4-1F84-400D-8773-346E812C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35D-4E17-4CCC-9983-BC6D85C9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BF2-D494-4822-B54E-2C278DCA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0BC-288D-4802-B7C7-0E63926D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63F-69BB-4CBC-833D-5430D862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F5D-4024-48EE-854B-C8E4D8F0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CAA-2A94-4164-9BC5-70057960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BAE-79F4-4AB1-AC73-459ADDCA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EE9-E641-48D7-8D05-A88561E3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E8F-8DBA-4FCF-BBF8-CC445CB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877-BC33-46AE-8E74-7E65225D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97B-F1A1-4B43-9BBB-DE0B9FB2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8ADD-6FE8-481A-AACC-32DBDCC8C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eodis.net/display.asp?resourceIdentifier=2003103_12214297&amp;num_to_display=10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leodis.net/display.asp?resourceIdentifier=20021016_69196719&amp;num_to_display=10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73720"/>
            <a:ext cx="9144000" cy="1079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941800">
            <a:off x="4975200" y="4149360"/>
            <a:ext cx="4168800" cy="25383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1908000" y="746280"/>
            <a:ext cx="5400720" cy="40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ictorian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calit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5384880"/>
            <a:ext cx="4248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sson 3</a:t>
            </a:r>
            <a:br>
              <a:rPr sz="2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NTION IN VICTORIAN TIM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amp; THE BEGINNINGS OF THE RAI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892080"/>
            <a:ext cx="422928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89000"/>
            <a:ext cx="68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er or L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7080" y="1386000"/>
            <a:ext cx="2818080" cy="35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720720" y="50878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ype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356000" y="1096920"/>
            <a:ext cx="4550040" cy="4413600"/>
            <a:chOff x="4356000" y="1096920"/>
            <a:chExt cx="4550040" cy="4413600"/>
          </a:xfrm>
        </p:grpSpPr>
        <p:sp>
          <p:nvSpPr>
            <p:cNvPr id="51" name=""/>
            <p:cNvSpPr/>
            <p:nvPr/>
          </p:nvSpPr>
          <p:spPr>
            <a:xfrm>
              <a:off x="4356000" y="1096920"/>
              <a:ext cx="4550040" cy="438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00600" y="1484280"/>
              <a:ext cx="217332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0" spc="-1" strike="noStrike">
                  <a:solidFill>
                    <a:srgbClr val="eaeaea"/>
                  </a:solidFill>
                  <a:latin typeface="Arial Black"/>
                </a:rPr>
                <a:t>?</a:t>
              </a:r>
              <a:endParaRPr b="0" lang="en-US" sz="2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27560" y="1292400"/>
              <a:ext cx="2668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46880" y="3130560"/>
              <a:ext cx="14623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19440" y="1990800"/>
              <a:ext cx="12049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79600" y="56037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…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the answer is 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18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5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5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15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356000" y="1096920"/>
            <a:ext cx="4550040" cy="4413600"/>
            <a:chOff x="4356000" y="1096920"/>
            <a:chExt cx="4550040" cy="4413600"/>
          </a:xfrm>
        </p:grpSpPr>
        <p:sp>
          <p:nvSpPr>
            <p:cNvPr id="58" name=""/>
            <p:cNvSpPr/>
            <p:nvPr/>
          </p:nvSpPr>
          <p:spPr>
            <a:xfrm>
              <a:off x="4356000" y="1096920"/>
              <a:ext cx="4550040" cy="438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00600" y="1484280"/>
              <a:ext cx="217332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0" spc="-1" strike="noStrike">
                  <a:solidFill>
                    <a:srgbClr val="eaeaea"/>
                  </a:solidFill>
                  <a:latin typeface="Arial Black"/>
                </a:rPr>
                <a:t>?</a:t>
              </a:r>
              <a:endParaRPr b="0" lang="en-US" sz="2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27560" y="1292400"/>
              <a:ext cx="2668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46880" y="3130560"/>
              <a:ext cx="14623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19440" y="1990800"/>
              <a:ext cx="12049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0" y="892080"/>
            <a:ext cx="422928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89000"/>
            <a:ext cx="68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er or L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0878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600" y="56037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…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the answer is 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18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3720" y="1469880"/>
            <a:ext cx="2857680" cy="35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5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5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4356000" y="1096920"/>
            <a:ext cx="4550040" cy="4413600"/>
            <a:chOff x="4356000" y="1096920"/>
            <a:chExt cx="4550040" cy="4413600"/>
          </a:xfrm>
        </p:grpSpPr>
        <p:sp>
          <p:nvSpPr>
            <p:cNvPr id="70" name=""/>
            <p:cNvSpPr/>
            <p:nvPr/>
          </p:nvSpPr>
          <p:spPr>
            <a:xfrm>
              <a:off x="4356000" y="1096920"/>
              <a:ext cx="4550040" cy="438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00600" y="1484280"/>
              <a:ext cx="217332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0" spc="-1" strike="noStrike">
                  <a:solidFill>
                    <a:srgbClr val="eaeaea"/>
                  </a:solidFill>
                  <a:latin typeface="Arial Black"/>
                </a:rPr>
                <a:t>?</a:t>
              </a:r>
              <a:endParaRPr b="0" lang="en-US" sz="2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27560" y="1292400"/>
              <a:ext cx="2668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46880" y="3130560"/>
              <a:ext cx="14623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19440" y="1990800"/>
              <a:ext cx="12049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0" y="892080"/>
            <a:ext cx="422928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89000"/>
            <a:ext cx="68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er or L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720" y="50878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ramo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" y="56037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…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the answer is 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18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4800" y="1500120"/>
            <a:ext cx="3122640" cy="351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5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65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15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356000" y="1096920"/>
            <a:ext cx="4550040" cy="4413600"/>
            <a:chOff x="4356000" y="1096920"/>
            <a:chExt cx="4550040" cy="4413600"/>
          </a:xfrm>
        </p:grpSpPr>
        <p:sp>
          <p:nvSpPr>
            <p:cNvPr id="82" name=""/>
            <p:cNvSpPr/>
            <p:nvPr/>
          </p:nvSpPr>
          <p:spPr>
            <a:xfrm>
              <a:off x="4356000" y="1096920"/>
              <a:ext cx="4550040" cy="438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0600" y="1484280"/>
              <a:ext cx="217332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0" spc="-1" strike="noStrike">
                  <a:solidFill>
                    <a:srgbClr val="eaeaea"/>
                  </a:solidFill>
                  <a:latin typeface="Arial Black"/>
                </a:rPr>
                <a:t>?</a:t>
              </a:r>
              <a:endParaRPr b="0" lang="en-US" sz="2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27560" y="1292400"/>
              <a:ext cx="2668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46880" y="3130560"/>
              <a:ext cx="14623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19440" y="1990800"/>
              <a:ext cx="12049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0" y="892080"/>
            <a:ext cx="422928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89000"/>
            <a:ext cx="68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er or L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0720" y="50878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irst Rail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" y="56037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…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the answer is 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18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887" t="0" r="2625" b="0"/>
          <a:stretch/>
        </p:blipFill>
        <p:spPr>
          <a:xfrm>
            <a:off x="244440" y="1482840"/>
            <a:ext cx="388800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5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5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92080"/>
            <a:ext cx="612288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89000"/>
            <a:ext cx="68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Dawn of the Rai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0520" y="1387440"/>
            <a:ext cx="37735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 developed rapidly during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ctorian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ilways had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rg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hens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io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2658" t="8948" r="23499" b="44464"/>
          <a:stretch/>
        </p:blipFill>
        <p:spPr>
          <a:xfrm>
            <a:off x="5640480" y="1198440"/>
            <a:ext cx="3348000" cy="414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rcRect l="2729" t="0" r="4453" b="6183"/>
          <a:stretch/>
        </p:blipFill>
        <p:spPr>
          <a:xfrm>
            <a:off x="3605040" y="3657600"/>
            <a:ext cx="5127840" cy="26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5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95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95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892080"/>
            <a:ext cx="69516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89000"/>
            <a:ext cx="68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Railways Come To L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0520" y="1387440"/>
            <a:ext cx="47307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ldest horse-drawn railway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eds &amp; Manchester Railway as a link to the rest of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a great feat of architecture to complet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890" t="0" r="0" b="17193"/>
          <a:stretch/>
        </p:blipFill>
        <p:spPr>
          <a:xfrm>
            <a:off x="5375160" y="1031760"/>
            <a:ext cx="3429000" cy="238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378400" y="3452760"/>
            <a:ext cx="343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560" y="3452760"/>
            <a:ext cx="34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MIDDLETON COLLI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1291" t="5265" r="861" b="4455"/>
          <a:stretch/>
        </p:blipFill>
        <p:spPr>
          <a:xfrm>
            <a:off x="5359320" y="4048200"/>
            <a:ext cx="3441960" cy="168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335560" y="5791320"/>
            <a:ext cx="350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 TRAIN ON THE LANCASHIRE &amp; YORKSHIRE RAIL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5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5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5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92080"/>
            <a:ext cx="458640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89000"/>
            <a:ext cx="68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avelling By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0520" y="1387440"/>
            <a:ext cx="47307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omfortable journ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very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change to towns and neighbou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78400" y="3452760"/>
            <a:ext cx="343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43480" y="441360"/>
            <a:ext cx="3273480" cy="507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27120" y="3732120"/>
            <a:ext cx="3973680" cy="261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8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8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92080"/>
            <a:ext cx="3532320" cy="0"/>
          </a:xfrm>
          <a:prstGeom prst="line">
            <a:avLst/>
          </a:prstGeom>
          <a:ln w="38160">
            <a:solidFill>
              <a:srgbClr val="fffff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89000"/>
            <a:ext cx="68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n and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42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Victorians in the Locality / 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8400" y="3452760"/>
            <a:ext cx="343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Your selected Image - Click to Return to Full Detail">
            <a:hlinkClick r:id="rId1"/>
          </p:cNvPr>
          <p:cNvPicPr/>
          <p:nvPr/>
        </p:nvPicPr>
        <p:blipFill>
          <a:blip r:embed="rId2"/>
          <a:srcRect l="0" t="12658" r="0" b="10839"/>
          <a:stretch/>
        </p:blipFill>
        <p:spPr>
          <a:xfrm>
            <a:off x="307800" y="3046320"/>
            <a:ext cx="4096080" cy="227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" descr="Your selected Image - Click to Return to Full Detai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120" y="1096920"/>
            <a:ext cx="4102200" cy="197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07880" y="5427720"/>
            <a:ext cx="38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Middleton Railway in 1829 and Leeds City Station in 19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29040" y="4878360"/>
            <a:ext cx="38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eds City Station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861080" y="1824120"/>
            <a:ext cx="382896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5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45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8:17:29Z</dcterms:created>
  <dc:creator>Rob Halon</dc:creator>
  <dc:description/>
  <dc:language>en-US</dc:language>
  <cp:lastModifiedBy>Information Systems Services</cp:lastModifiedBy>
  <dcterms:modified xsi:type="dcterms:W3CDTF">2004-04-29T13:46:26Z</dcterms:modified>
  <cp:revision>21</cp:revision>
  <dc:subject/>
  <dc:title>Slide 1</dc:title>
</cp:coreProperties>
</file>